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656-2922-4637-9575-D85CAE80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FE3-430B-4918-A047-DB417C3E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A306-5757-4368-B84B-CDC9092F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9DD5-E743-457D-8611-C71B3BC6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CA54-93D8-457A-AF91-BBF86707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16F9-2703-4AA2-B606-01FBEFB4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1BDD-98A3-438F-9E6D-736AC8B9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742D-A0E1-422C-AF0F-5DE92C6B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7B96-A27B-4BF5-8FCD-44A1E402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92AC-D047-427C-B224-95AA328A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539D-AE49-437E-9B1A-8E5AB3D4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B9CD-8859-4802-AB40-75C4B976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AD4F-0C8B-4086-B3F8-86331335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1EB5-62FF-47EB-9FE9-59186D40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EA55-72C2-4FA4-B504-3B215703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0B8F-63DA-4D5C-90AE-0320DA3A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199F-80B6-40AD-9E71-7BF35310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3FD9-B020-4B03-9499-5D6F5B6D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A6E-11A9-4E33-A428-7399B3B0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ADAB-5D94-4235-A7AA-8236CF9B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E07-2E67-46C5-AEFB-648F12C4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5EE-1A09-4F97-B927-B5EB6157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AF64-E653-4812-B24D-F167C3DB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5D34-0BC4-4843-A750-7E197AE1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6199-13B1-446A-B60C-BE02CD64C2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0ACD-4DCC-40B3-A2A8-8AA95764C5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America’s New Governmen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rom 13 British Colon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13 United States of Americ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77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Declaration of Independence was written by Thomas Jefferson with the aid and consent of the Continental Congres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cluded in this Congress were Benjamin Franklin and John Ada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Declaration of Independence would declare the official separation from the British empire and announce the existence of the newly founded United States of America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eclaration of Independence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ould declare that “all men are created equal…”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7" descr="USA_declaration_of_independence"/>
          <p:cNvPicPr/>
          <p:nvPr/>
        </p:nvPicPr>
        <p:blipFill>
          <a:blip r:embed="rId1"/>
          <a:stretch/>
        </p:blipFill>
        <p:spPr>
          <a:xfrm>
            <a:off x="5057640" y="1828800"/>
            <a:ext cx="3257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eclaration of Independence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200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ould declare that “all men are created equal…”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ile written in a room with no wome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Declaration of Independence"/>
          <p:cNvPicPr/>
          <p:nvPr/>
        </p:nvPicPr>
        <p:blipFill>
          <a:blip r:embed="rId1"/>
          <a:stretch/>
        </p:blipFill>
        <p:spPr>
          <a:xfrm>
            <a:off x="3886200" y="2057400"/>
            <a:ext cx="487692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eclaration of Independence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200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ould declare that “all men are created equal…”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ile written in a room with no women…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y men who owned slav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untitled"/>
          <p:cNvPicPr/>
          <p:nvPr/>
        </p:nvPicPr>
        <p:blipFill>
          <a:blip r:embed="rId1"/>
          <a:stretch/>
        </p:blipFill>
        <p:spPr>
          <a:xfrm>
            <a:off x="3886200" y="1905120"/>
            <a:ext cx="48769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eclaration of Independence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200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ould also declare that man had natural rights which should not be violated by other me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Life, Liberty, and the Pursuit of Happines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were these righ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USA_declaration_of_independence"/>
          <p:cNvPicPr/>
          <p:nvPr/>
        </p:nvPicPr>
        <p:blipFill>
          <a:blip r:embed="rId1"/>
          <a:stretch/>
        </p:blipFill>
        <p:spPr>
          <a:xfrm>
            <a:off x="5057640" y="1828800"/>
            <a:ext cx="3257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Declaration of Independence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omas Jefferson made sure to include the right of the people to overthrow and replace a government if it does not meet the needs of the peop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founders of this country believed that government should serve the people, not the other way aroun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ife, liberty, and the pursuit of happiness should be protected by the government and never violat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9:55:41Z</dcterms:created>
  <dc:creator>NYCDOE</dc:creator>
  <dc:description/>
  <dc:language>en-US</dc:language>
  <cp:lastModifiedBy>NYCDOE</cp:lastModifiedBy>
  <dcterms:modified xsi:type="dcterms:W3CDTF">2011-03-30T02:43:46Z</dcterms:modified>
  <cp:revision>5</cp:revision>
  <dc:subject/>
  <dc:title>America’s New Government</dc:title>
</cp:coreProperties>
</file>